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16B-A143-4002-95FC-C17748A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1E8-5A5A-4C77-86DE-F0E8764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CD5-D533-47EF-9660-13EA8F96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371-33DC-40E2-AC66-DEB3B197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971-DD24-4241-B9EF-494372F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B48-22D9-450C-9CCB-78ADDAFB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708-A42B-4C59-AB1E-75B5A48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4B8-CBEB-4F56-A3E9-12FA9AD0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E52-51BE-47AF-A0FC-AD7AA551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394-C323-49EE-96C7-FD27A621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9E2-A423-496D-B95D-05B1F36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AF5-AE5F-41A4-B292-0C9DD78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AD40-6CAE-4957-918B-99A814C87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243864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26668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205416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26668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361960" cy="19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666880"/>
            <a:ext cx="129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150048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2090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1280" y="28195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819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1670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772400" y="487692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219320" y="4876920"/>
            <a:ext cx="1150920" cy="143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3809880"/>
            <a:ext cx="4572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2743200"/>
            <a:ext cx="1447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195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14400"/>
            <a:ext cx="297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n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1280" y="24382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1836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beth_ware</cp:lastModifiedBy>
  <dcterms:modified xsi:type="dcterms:W3CDTF">2007-04-07T12:18:56Z</dcterms:modified>
  <cp:revision>12</cp:revision>
  <dc:subject/>
  <dc:title>-ill Word Family</dc:title>
</cp:coreProperties>
</file>